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CD3A-67D6-4CFA-A950-50EF4C6F2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E00E-A2D1-4F81-8017-2283A26C6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53FF-0216-45BC-9B07-206859B70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1B81-A0E0-4F2F-94D8-91C7F69A3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E9B3-3A8C-4305-826B-BBCECF691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7342-25D4-48C6-8B96-471C119FD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E96D-0985-4CDD-9B76-CA6FA1165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5AD-946B-4A9F-BF99-0AEFDEA2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A8CC-461C-4F02-9C3F-AC7D16D1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D4CB-0E8D-43CE-BF5D-F8FA8E918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50E0-01DE-4F27-BA23-CE368D16A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E8AF-30D8-4CFD-8D03-AB3557033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B9C1-8AA3-4FFB-8BF4-2771F8C41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322F-7925-4D8E-B627-B57B08545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D7EB-098C-4D94-82A5-043C11EC5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401-581F-495F-B505-CC2581CC5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E5CD-E3FE-4DBA-81C5-AFF6D0C65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6201-5EF0-4D2A-B691-C2F65151E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6621-8907-405A-955A-0E6875C5B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6F43-C73B-41D9-952C-2327AE869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D3F4-923E-4470-9AAC-FC6E573BC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EEB0-09E1-43D0-87D5-4A720A1D4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22ED-3D9E-433A-9C04-C51E83170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60E2-2971-47AB-A770-68E31B82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FD6-0F82-4B69-9F7B-71C4D1C1E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ECAF-2982-4A25-92CB-D137FCA7E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5D23-B243-4E00-90E0-A1AB37046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789E-30DC-4D80-949C-A0A13CB4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9BC-9F44-41DD-83D6-030BD9CB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5D9F-685C-4513-8C77-67C757BB0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D28-43CF-4ACA-9B58-160B44C95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285-1FED-4358-BACD-B4C946D9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4C4-BA17-4ECD-99F1-27C0C957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E20-4696-4E6D-A597-5556ED32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60D-EC5F-49BC-8096-E9F10692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9D3C-5C8E-4402-81DF-2C83F1A1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EE30-E01E-48C1-B809-5BF2D867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8654-CF96-4DA4-91BB-E532F2C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457A-FBEB-427A-A074-FEF42611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7574-EBA4-4788-A6CD-4E105C17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5CA5-4FBD-4D77-AED1-871E2166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D53A-16E4-447A-9F73-93B3459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F1B-C82D-407B-80DD-02BBD32C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3778-B865-4940-AB33-BDB5E69D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63B4-5A94-4D1B-8DE6-19A0E6E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2AA3-D58A-4EF0-A5F7-4664D748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66C5-6A9A-4454-ABB6-D2882030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7683-751E-4D0C-9B28-56FDFD71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6C6-0FC9-4762-9E58-9E355C38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C59-6965-420A-A38D-39A69F5A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094-6C18-45A3-8A21-37823936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236-67D9-4137-80EC-50417E3F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F09-113F-49B2-9FCB-A88EFE59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C14-B719-4990-849B-113A2563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139-704E-4D2C-B533-E9BF760E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0865-2F4C-41CC-9015-15A67AD47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18D5-2013-449B-B08F-EC0FF666D8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nmml.afsc.noaa.gov/SystemicManagement/fisheries/Figure_2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images.google.com/imgres?imgurl=http://www.extension.umn.edu/distribution/naturalresources/images/6517f04c.gif&amp;imgrefurl=http://www.extension.umn.edu/distribution/naturalresources/DD6517.html&amp;h=108&amp;w=214&amp;sz=3&amp;hl=en&amp;start=3&amp;tbnid=o442xRIFZQHhTM:&amp;tbnh=53&amp;tbnw=106&amp;prev=/images%3Fq%3Dshelterwood%2Blogging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1295280" y="228600"/>
            <a:ext cx="64008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 13:  Forests, Parks and Landscap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nom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log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ffects of clear-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landslides likely on steep sl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mgmt may also include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cribed burning. (clear underbrus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lantation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planted after clear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forest"/>
          <p:cNvPicPr/>
          <p:nvPr/>
        </p:nvPicPr>
        <p:blipFill>
          <a:blip r:embed="rId1"/>
          <a:stretch/>
        </p:blipFill>
        <p:spPr>
          <a:xfrm>
            <a:off x="5029200" y="38862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plantation_lif"/>
          <p:cNvPicPr/>
          <p:nvPr/>
        </p:nvPicPr>
        <p:blipFill>
          <a:blip r:embed="rId2"/>
          <a:stretch/>
        </p:blipFill>
        <p:spPr>
          <a:xfrm>
            <a:off x="304920" y="3902040"/>
            <a:ext cx="39621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676520" y="3808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ks and Prese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4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info. (10% land set as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 and State Park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. Forest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_____________________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l. Parks managed by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ate manages 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rst Natl. Park in US was Yellowstone 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ks and preserves as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k vs nature reserve/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park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natl. reserve…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size and diversity of habi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 # of speci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maintaine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signing a pres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, more varied habitats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vity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7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ing 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lder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undisturbed, roadless hab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Wilderness Act of 1964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Humans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visit’, not machines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1" descr="hiking in Adams Ansel Wilderness, John Muir Trail"/>
          <p:cNvPicPr/>
          <p:nvPr/>
        </p:nvPicPr>
        <p:blipFill>
          <a:blip r:embed="rId1"/>
          <a:stretch/>
        </p:blipFill>
        <p:spPr>
          <a:xfrm>
            <a:off x="1219320" y="3048120"/>
            <a:ext cx="70149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4:  Wildlife, Fisheries and 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Managing wildlife popul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a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aximum Sustainable Yiel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Y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b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inimum Viable Population 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(endangered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c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Optimum Sustainabl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d. 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 70% global fishes considered overfish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762120" y="1828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d fish harvests are decl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shelf = 95% har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pwelling, nutrients, alga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armful commercial fishing technique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990720" y="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or every pound of shrimp caught, 10 - 20 lb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ycatch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“trawl trash” is killed and discard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8" descr="Trawling"/>
          <p:cNvPicPr/>
          <p:nvPr/>
        </p:nvPicPr>
        <p:blipFill>
          <a:blip r:embed="rId1"/>
          <a:stretch/>
        </p:blipFill>
        <p:spPr>
          <a:xfrm>
            <a:off x="838080" y="27432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4495680" y="2743200"/>
            <a:ext cx="4419720" cy="373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952880" y="335268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area of the seafloor trawled is equal to 150X the area of forests clear cut each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 One of the most crucial environ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 of our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rect ca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ing world = maj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fu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57200" y="685800"/>
            <a:ext cx="792468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o’s being deple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rtually every large fish in the ocean: Including, but not limit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have declined by 90% since industrialized fishing after WW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sheries in total collap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y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uefin and Albacore T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d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lantic C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vies from P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on from Pacific North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laska is O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Collapse of the Newfoundland cod fish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38080" y="685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World  Fisheries 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3520" y="1371600"/>
            <a:ext cx="8381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992 and 19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ry major country discusses codes of conduct/harvesting…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a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Graph representing Trend in median age-at-maturity for Atlantic cod in Lofoton,&#13;&#10;Norway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66760"/>
            <a:ext cx="8610480" cy="5243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29528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h caught are getting younger and you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les and W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hales and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istence  vs. commerc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iest losses in 20th century wi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 whaling equ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less $$ than 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a few crucial products (whale 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ed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6 set moratorium on commercial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2  (very important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 Violates Ban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000 have been slaughtered since the ban in 198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568760" y="3860640"/>
            <a:ext cx="6480" cy="5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nder guise of “scientific researc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s the “rats of the sea” are responsible for crash of fisheri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WC contemplating 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phins, porpois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and accidental hun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una net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peration and boycot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helped establish measur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duce bycatch mort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l. Union of Concerned Scientists (IUCC) Red List says, at risk of extinction ar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mam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rept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amphi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1523880" y="228600"/>
            <a:ext cx="6019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Case Study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Paper and Defor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67616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and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We (5% or world’s pop.) use 30% of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ood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Predicted to double by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oldgrowth_logo_lg"/>
          <p:cNvPicPr/>
          <p:nvPr/>
        </p:nvPicPr>
        <p:blipFill>
          <a:blip r:embed="rId1"/>
          <a:stretch/>
        </p:blipFill>
        <p:spPr>
          <a:xfrm>
            <a:off x="6781680" y="2666880"/>
            <a:ext cx="2133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Natural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fluctuations (if pop is very 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Catastrop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changes (Small po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Human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xic Pollution and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Pollut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leaching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ia_b_guetezeichen2_0_magia"/>
          <p:cNvPicPr/>
          <p:nvPr/>
        </p:nvPicPr>
        <p:blipFill>
          <a:blip r:embed="rId1"/>
          <a:stretch/>
        </p:blipFill>
        <p:spPr>
          <a:xfrm>
            <a:off x="5257800" y="4191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eventh Generation Toilet Paper"/>
          <p:cNvPicPr/>
          <p:nvPr/>
        </p:nvPicPr>
        <p:blipFill>
          <a:blip r:embed="rId2"/>
          <a:stretch/>
        </p:blipFill>
        <p:spPr>
          <a:xfrm>
            <a:off x="990720" y="34290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1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per is the dominant material in solid was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ternatives to wood in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ena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rom East In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743200"/>
            <a:ext cx="815328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286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m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irst paper 105 A.D. - Ch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at, sugar cane and other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gricultural stra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ricultural was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used for over 200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762120" y="1523880"/>
            <a:ext cx="7924680" cy="327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523880" y="0"/>
            <a:ext cx="5791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rest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218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wo types of for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st logging is on private and U.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est  service l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f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greatest amou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good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st amount of peop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6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440" y="762120"/>
            <a:ext cx="8458200" cy="5943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F.S.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use poli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ists call this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misus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533160"/>
            <a:ext cx="8305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gging strate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6517f04a.gif - 1.43 K"/>
          <p:cNvPicPr/>
          <p:nvPr/>
        </p:nvPicPr>
        <p:blipFill>
          <a:blip r:embed="rId1"/>
          <a:stretch/>
        </p:blipFill>
        <p:spPr>
          <a:xfrm>
            <a:off x="5867280" y="533520"/>
            <a:ext cx="266724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6517f04b.gif - 1.55 K"/>
          <p:cNvPicPr/>
          <p:nvPr/>
        </p:nvPicPr>
        <p:blipFill>
          <a:blip r:embed="rId2"/>
          <a:stretch/>
        </p:blipFill>
        <p:spPr>
          <a:xfrm>
            <a:off x="6019920" y="2362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6517f04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800600"/>
            <a:ext cx="2768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23:03:34Z</dcterms:created>
  <dc:creator>Amy Chan</dc:creator>
  <dc:description/>
  <dc:language>en-US</dc:language>
  <cp:lastModifiedBy>infosys</cp:lastModifiedBy>
  <dcterms:modified xsi:type="dcterms:W3CDTF">2015-11-30T22:52:59Z</dcterms:modified>
  <cp:revision>73</cp:revision>
  <dc:subject/>
  <dc:title>Chapter 13  Landscapes and Seascapes</dc:title>
</cp:coreProperties>
</file>